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6E8-4A68-4036-80B3-5965EE4B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E3E-3F4B-4306-A0A7-8DA2FCDE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E20-9357-477E-912D-8A152AF5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5A6-13C2-4E71-AA1B-41ABBA5A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F48-891F-4F6C-A49D-2F9D5C0C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3AC-63B5-4919-8E2B-10E500E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E7A-B857-4A8B-8171-BFDCE47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AF5-7A70-40F8-98B5-0660C55E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21A-527B-43C1-AE66-DBB32D5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0BF-5AAD-4DB5-8A5D-E62E8FC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E80-CC9C-4F98-BE09-32638E4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0BC-AFC3-42D2-9829-1E14080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DBE-33F1-45EC-97DB-B00286D96F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4544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4529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848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3520" y="836640"/>
            <a:ext cx="8880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4818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5240" y="495360"/>
            <a:ext cx="8813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1:34:16Z</dcterms:created>
  <dc:creator>이훈삼</dc:creator>
  <dc:description/>
  <dc:language>en-US</dc:language>
  <cp:lastModifiedBy>이훈삼</cp:lastModifiedBy>
  <dcterms:modified xsi:type="dcterms:W3CDTF">2013-02-22T03:39:37Z</dcterms:modified>
  <cp:revision>2</cp:revision>
  <dc:subject/>
  <dc:title>슬라이드 1</dc:title>
</cp:coreProperties>
</file>